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8F9-0D33-4F13-85F7-55FF61CD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497-650B-4893-89D5-1E9512F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FCE-7FC9-4987-8456-9D6DE9A0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0D3-3778-4EA1-B117-70DCC301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056-6FD6-48B4-8D8C-B58E9371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921-8C4A-4DEA-9ACC-B5C9CED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8EB1-1510-4D89-B6EE-F174E2A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D6C7-1661-414A-BFD9-F16FB20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05BC-9F3E-4847-9831-1795E621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B4F8-DEA7-4D27-BEFF-2AC65D1C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A791-FE7D-4E26-81AE-961EFE8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18C-4372-490D-B2CA-FB783AAC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F4E-EEEF-4057-B5F6-AE9964F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987E-CDB9-48FE-BCE0-7ADC430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A1F1-5CBC-4071-8AD2-61FFE75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FDDC-6B6E-4914-98C4-C3154B1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59E-49B3-493E-AD51-EEB4A0A2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D4A-76D4-4F32-8F8C-E04201F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8EC-060B-40F8-B89A-45266AC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EF8-C464-43D6-B53D-9932766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032-0249-4A99-8128-87640F4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113-120F-441A-AAF5-8E5389BB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F55-7A49-47DF-B54D-15543FA5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9E8-C55F-4AC6-8459-2103A53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94E-12BB-41BC-98E2-EC5938252D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17E7-7810-4014-8D61-0B243E75AB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image" Target="../media/image3.pct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3.pct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image" Target="../media/image3.pct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19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7320" y="2955960"/>
            <a:ext cx="52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Bienvenido A Riesg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fitrión por: Brett Chap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783480"/>
            <a:ext cx="74520" cy="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75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spor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ootba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Ska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owl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clothing lin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Hollis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American Ea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Infam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é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Cou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zzuré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future job do I wan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Entrepreneu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rb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chit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ich invention do I wish to make in the futur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agnetic Electrical Out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iJ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i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Virtual Reality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do I want to live in the futur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Yead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Paris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Myrtle Bea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is my chilling plac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Caf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allro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Everyw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I eat for lunch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urmet M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m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PB &amp; J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ich class do I have on Mondays at 8:15 A.M.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Engl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ree Peri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io-Ch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09680" y="2743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ff22"/>
                </a:solidFill>
                <a:latin typeface="Arial"/>
              </a:rPr>
              <a:t>Correct </a:t>
            </a:r>
            <a:r>
              <a:rPr b="0" lang="en-US" sz="9600" spc="-1" strike="noStrike">
                <a:solidFill>
                  <a:srgbClr val="15ff22"/>
                </a:solidFill>
                <a:latin typeface="Monotype Sorts"/>
                <a:ea typeface="Monotype Sorts"/>
              </a:rPr>
              <a:t>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20560" y="2590920"/>
            <a:ext cx="500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1e12"/>
                </a:solidFill>
                <a:latin typeface="Arial"/>
              </a:rPr>
              <a:t>Incorrect </a:t>
            </a:r>
            <a:r>
              <a:rPr b="0" lang="en-US" sz="9600" spc="-1" strike="noStrike">
                <a:solidFill>
                  <a:srgbClr val="ff1e12"/>
                </a:solidFill>
                <a:latin typeface="Monotype Sorts"/>
                <a:ea typeface="Monotype Sorts"/>
              </a:rPr>
              <a:t>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50080" y="22860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2240" y="2286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amigos y ami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44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4000" y="38098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vida en escu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8098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uturo su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680" y="4572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t 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80880"/>
            <a:ext cx="3668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</a:t>
            </a:r>
            <a:endParaRPr b="0" lang="en-US" sz="4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m I named afte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38098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D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Cous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any cousins do I hav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3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None of the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’s my niece’s nam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Lak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Kail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Elizabe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Morg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any friends do I hav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Too many to cou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re my best male friend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John and Robe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Kitab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nd Vi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Anwar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and Lam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Bubbleman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8" action="ppaction://hlinksldjump"/>
              </a:rPr>
              <a:t>and 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re my best female friend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akayl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Dominq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man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Dej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á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ca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inite G37 Cou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Nissan 350z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on T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W Bett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6:38:04Z</dcterms:created>
  <dc:creator>School District of Philadelphia</dc:creator>
  <dc:description/>
  <dc:language>en-US</dc:language>
  <cp:lastModifiedBy>School District of Philadelphia</cp:lastModifiedBy>
  <dcterms:modified xsi:type="dcterms:W3CDTF">2007-12-18T16:48:11Z</dcterms:modified>
  <cp:revision>7</cp:revision>
  <dc:subject/>
  <dc:title> </dc:title>
</cp:coreProperties>
</file>